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DB0-4AE1-44B5-9A6B-F1A298C9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A2B-AF14-480B-839B-0B73B5AF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5DC-E2C3-4106-8E0D-312E66B0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53C-B0E0-44FD-A964-D8CDCD80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EF1-8D4A-4A01-8B44-147E19D4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2F7-8D31-4604-9411-5DAF8348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F1D-BB2C-4E0B-8A10-29C2EE4B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04D-6FB7-43E1-8E81-084BAFAB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5B4-7913-4847-90BE-68AF2C71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ED4-7481-4C9B-98D1-7923C9F3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76A-0E02-43EC-830F-DA3A6DE0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6D3-C36D-481E-9417-D2E5D816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73C7-DE81-40DE-B76C-B5FF92B83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ser_account" TargetMode="External"/><Relationship Id="rId2" Type="http://schemas.openxmlformats.org/officeDocument/2006/relationships/hyperlink" Target="http://en.wikipedia.org/wiki/Password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erformance_tuning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ties of a system administr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eration that need upgraded equipment such as Computer, Drop Cables (UTP), fiber optic cables, Hub, Switch, etc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users in use of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d write procedures for installation, use, and troubleshooting of communications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ystem administrator's responsibilities typicall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ning checks of systems/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system performance and provide security measures, troubleshooting and maintenance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users to diagnose and solve their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/deleting/modify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er accoun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formation, resett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sword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formance tun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implement systems, network configurations, and network architecture, including hardware and software technology, site locations, and integration of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the peripherals, such as printers, that are connected to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5:57:53Z</dcterms:created>
  <dc:creator>james</dc:creator>
  <dc:description/>
  <dc:language>en-US</dc:language>
  <cp:lastModifiedBy>james</cp:lastModifiedBy>
  <dcterms:modified xsi:type="dcterms:W3CDTF">2006-10-21T10:39:49Z</dcterms:modified>
  <cp:revision>8</cp:revision>
  <dc:subject/>
  <dc:title>Duties of a system administrator </dc:title>
</cp:coreProperties>
</file>