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400-5B8D-477B-AEEC-7FE56376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78D-0AA4-4C35-A71E-1E7DEFE5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545-DB9F-4AA1-B1EE-630239F5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B3A-9192-44BA-8274-0E2694E3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C3E-5845-4CA7-A195-8E4B7E03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EC2-F64F-4D93-99DE-7908F85A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824-ACDF-470C-A33E-1B7395D6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EB5-A4E6-47F2-8EFE-EB989DFA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506-BB4E-479C-8089-9BC1B2B5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187-8BAE-4DBF-90D1-BBDC8147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79B-1686-47BA-BCB6-66B1F3A6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2FB-1275-408B-BCAD-78D58CD5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282F-6AF0-4409-8ADD-EFF13DBE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ser_account" TargetMode="External"/><Relationship Id="rId2" Type="http://schemas.openxmlformats.org/officeDocument/2006/relationships/hyperlink" Target="http://en.wikipedia.org/wiki/Password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erformance_tuning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uties of a system administr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eration that need upgraded equipment such as Computer, Drop Cables (UTP), fiber optic cables, Hub, Switch, etc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users in use of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d write procedures for installation, use, and troubleshooting of communications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ystem administrator's responsibilities typicall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ning checks of systems/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system performance and provide security measures, troubleshooting and maintenance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users to diagnose and solve their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/deleting/modify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er accoun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formation, resett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sword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formance tun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implement systems, network configurations, and network architecture, including hardware and software technology, site locations, and integration of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the peripherals, such as printers, that are connected to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5:57:53Z</dcterms:created>
  <dc:creator>james</dc:creator>
  <dc:description/>
  <dc:language>en-US</dc:language>
  <cp:lastModifiedBy>james</cp:lastModifiedBy>
  <dcterms:modified xsi:type="dcterms:W3CDTF">2006-10-21T10:39:49Z</dcterms:modified>
  <cp:revision>8</cp:revision>
  <dc:subject/>
  <dc:title>Duties of a system administrator </dc:title>
</cp:coreProperties>
</file>