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E53-F36F-4AE7-97F9-7F54B568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5BA-350F-431F-A970-30EAF86E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B9B-34F8-4061-BA28-B97E0A3C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937-6E70-4BAF-BF0B-0AAFAE65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A42-3731-4B18-959D-77183AE8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A58-217E-420A-B242-43705491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86A-222A-4316-88DC-FB890EC1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1F8C-BAC9-4FF3-9C15-91D9BCB1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57E-63AF-4FA5-ADDD-95CB5E76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537-A4DE-43AD-9536-CCA93D2C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7EC-CF12-48A5-8690-CF3FB634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5C4D-937B-499E-BCA5-127288EF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6F80-FA2B-4F77-808F-D8C3F0B1C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User_account" TargetMode="External"/><Relationship Id="rId2" Type="http://schemas.openxmlformats.org/officeDocument/2006/relationships/hyperlink" Target="http://en.wikipedia.org/wiki/Password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erformance_tuning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uties of a system administrat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reas of operation that need upgraded equipment such as Computer, Drop Cables (UTP), fiber optic cables, Hub, Switch, etc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users in use of equi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d write procedures for installation, use, and troubleshooting of communications hardware and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system administrator's responsibilities typically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ning checks of systems/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system performance and provide security measures, troubleshooting and maintenance a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 users to diagnose and solve their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/deleting/modify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er accoun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information, resett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ssword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rformance tun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implement systems, network configurations, and network architecture, including hardware and software technology, site locations, and integration of techn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the peripherals, such as printers, that are connected to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5:57:53Z</dcterms:created>
  <dc:creator>james</dc:creator>
  <dc:description/>
  <dc:language>en-US</dc:language>
  <cp:lastModifiedBy>james</cp:lastModifiedBy>
  <dcterms:modified xsi:type="dcterms:W3CDTF">2006-10-21T10:39:49Z</dcterms:modified>
  <cp:revision>8</cp:revision>
  <dc:subject/>
  <dc:title>Duties of a system administrator </dc:title>
</cp:coreProperties>
</file>