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8741-4393-4A1A-A332-5C86CE81C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D620-6D7F-4197-A97E-8803B2F72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7105-EE3B-4351-89D3-00F805916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F1602-DB77-4046-8E7A-800235F54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04D3-35D4-4528-A1E8-B6CDE913A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85E7-FF4B-49F4-98EB-D220A3A96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F3F6-CAA7-4C9C-A3B0-545ADE0C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C2F6-4B81-4C39-9EA6-32D7CC1A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23FB-981D-480A-ACE8-26BDF116B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51CB-2F96-431C-8150-02A436148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9581-2B4B-44C3-A757-57D66E12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1A9B-1BFE-465F-942F-63D67F83F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A2C2D-DBF3-4C59-BF63-B898FD63C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en.wikipedia.org/wiki/User_account" TargetMode="External"/><Relationship Id="rId2" Type="http://schemas.openxmlformats.org/officeDocument/2006/relationships/hyperlink" Target="http://en.wikipedia.org/wiki/Password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erformance_tuning" TargetMode="Externa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uties of a system administrato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ntify areas of operation that need upgraded equipment such as Computer, Drop Cables (UTP), fiber optic cables, Hub, Switch, etc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 users in use of equip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 and write procedures for installation, use, and troubleshooting of communications hardware and soft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 system administrator's responsibilities typically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ning checks of systems/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 system performance and provide security measures, troubleshooting and maintenance a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ist users to diagnose and solve their probl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ng/deleting/modifying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user accoun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information, resetting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ssword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erformance tunin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 and implement systems, network configurations, and network architecture, including hardware and software technology, site locations, and integration of technolo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 the peripherals, such as printers, that are connected to the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15:57:53Z</dcterms:created>
  <dc:creator>james</dc:creator>
  <dc:description/>
  <dc:language>en-US</dc:language>
  <cp:lastModifiedBy>james</cp:lastModifiedBy>
  <dcterms:modified xsi:type="dcterms:W3CDTF">2006-10-21T10:39:49Z</dcterms:modified>
  <cp:revision>8</cp:revision>
  <dc:subject/>
  <dc:title>Duties of a system administrator </dc:title>
</cp:coreProperties>
</file>