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6BB-3CD1-4C5E-9391-8821056F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258-AE6A-41DC-872F-C9FF25E0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FB0-C382-4F3F-8FC5-FA055787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99D-E5B5-4181-8C12-57F4184F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44C-A72B-414D-86AF-90A26755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E1A-ED71-4B9C-A032-137088BE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098-37A8-4419-A1CE-89A214D2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8A6-2930-47A4-9AC2-48107EBC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332-EE0D-429A-95CC-6C11A749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1B9-C625-4BFC-99F0-EF71A9EA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08A-32DA-4FCA-881B-C86BD73A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664-C700-438C-8C11-3730CED5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A5CD-9CF6-4443-B3F1-4C793890E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ser_account" TargetMode="External"/><Relationship Id="rId2" Type="http://schemas.openxmlformats.org/officeDocument/2006/relationships/hyperlink" Target="http://en.wikipedia.org/wiki/Password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rformance_tuning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ties of a system administr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eration that need upgraded equipment such as Computer, Drop Cables (UTP), fiber optic cables, Hub, Switch, etc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users in use of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d write procedures for installation, use, and troubleshooting of communications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ystem administrator's responsibilities typicall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ning checks of systems/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ystem performance and provide security measures, troubleshooting and maintenance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users to diagnose and solve thei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/deleting/modify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er accou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formation, resett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sword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formance tun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implement systems, network configurations, and network architecture, including hardware and software technology, site locations, and integration of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the peripherals, such as printers, that are connected to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5:57:53Z</dcterms:created>
  <dc:creator>james</dc:creator>
  <dc:description/>
  <dc:language>en-US</dc:language>
  <cp:lastModifiedBy>james</cp:lastModifiedBy>
  <dcterms:modified xsi:type="dcterms:W3CDTF">2006-10-21T10:39:49Z</dcterms:modified>
  <cp:revision>8</cp:revision>
  <dc:subject/>
  <dc:title>Duties of a system administrator </dc:title>
</cp:coreProperties>
</file>